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6D86-3156-4E74-8224-1BCCB152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7BE1-5C71-4D92-9A81-0E974A38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25B9-02DD-47E7-9FBC-8A656FD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E550E-DBFC-4ADC-A876-C8565DAC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B6584-4876-4954-B532-BA72B06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721E9-CB37-4710-B5FD-3E9207F8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20C7F-7CD2-47E3-8FE2-12B5EAE7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4FED6-2329-4CAF-99FE-4CAA3F9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917BB-08F9-4D20-874B-C867481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0C23F-B2F3-4F5C-BCC8-1CB353E3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6C024-D00A-4F41-A3D0-3C1CA2D7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E0275-99DC-4072-B77B-6673EA72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6339-9C4F-4C34-B3AF-8FF4951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63061-E03E-4D70-B5EC-C5CFE93F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A95D8-D027-4FF5-BD5A-3AE4F18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F52B-BB99-4B1B-B95C-AD511B3B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AE8B9-D755-4C00-B525-0D360C8B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EAB7F-550B-4AE3-8F6C-8897A6C9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3F48-0871-4EA6-8E3A-642F408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6CAA2-790B-49B2-AC2F-69103CF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F4BA9-0BA2-4D17-894A-B3395E1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B61AE-4382-49B3-AE22-92E0601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E7A5A-2510-449E-A9F5-C23263FE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DD02-86B8-40C9-8628-9E52E8E8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4E50A-3C1E-41B6-8636-E5F0C6A5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E6EF6-A2A6-431F-9AF2-629D2430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1C1B-4193-4BC4-B192-D4E0954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6D7BA-512E-4F58-A4FB-CADEEDC9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B0EA7-F154-4EDC-94C1-D5445F22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90417-C8CF-40AD-9E2B-E71706A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E7343-55B9-445A-8EF7-3E485E7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6E9B1-8AAD-4FC5-8C34-A043E45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18B46-F1EA-42F4-AC79-F2C29AA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5A67F-EFAE-4034-8259-2ED7038C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0483-1851-4631-A674-4B5E5DD0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97FE2-35C3-4A3D-9DFF-9507F7E1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A9059-A183-4143-9460-8951B179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2F193-C859-4D55-9A35-3AACCDFA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A8C35-3780-4DC9-856D-F760B35F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5FFB8-EC2A-4E3C-85DB-5BC26FE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00332-B158-495A-97C6-A2BBCC1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A5DCA-4144-42E0-ADEE-D0F51266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B11E5-7C90-48D1-9878-EC4B6FF4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12FB2-EAFE-4883-BD33-A343541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12D87-3444-443B-A8B2-8BEA00F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786-2B68-442F-AFDF-6033A45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3602C-AE60-41DF-811F-64FA7F1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9B155-C192-437D-9FD9-4FF7755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726A4-3736-4C5E-B0C9-21D60265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9CF5D-0619-4E69-8A75-4D096BD6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D7F72-9C94-4CAD-9005-34AC20F5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34519-091F-4D10-950E-4785BF28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C4071-820E-4AA7-A1FE-0162109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F221A-C7F4-43F1-9CDA-28FBDBB3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8F9E0-8CA5-452B-A960-6839AEC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379E4-07F1-49B2-ADCE-3BB4AB02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E26-E343-4526-8149-0C36D74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91EC7-0C96-408C-AE99-C2FA206F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E453C-B6FD-4F76-A97B-4606F12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7EBF4-07DF-4B50-A0A6-92AC02D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F1E81-6292-44FE-A1FE-C0B6E3A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8F03B-6AB0-4A2A-A802-B01082EE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9966A-4A69-4F80-9E22-A0E0BD5B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D3AC7-5206-431E-9F47-86EA4FCB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E195F-B11D-48B9-ACCF-AFA3F729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5BE06-2BF2-4FB6-82CF-AF0CD954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19D73-7541-4080-BB4B-7265779C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073F-368A-4B82-A0EF-3DFE12F0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5B7B7-745F-4AC6-9A48-DB405D5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A1F1A-87E0-4894-8F56-B34767A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0543D-5737-4A9B-81AD-2C51FBF7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993A6-67C9-48CF-9E38-1148844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D4E6B-AAC1-4D34-84FB-9719CED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66DA1-B008-4D46-B830-56C94C7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AB3F5-DB31-4B94-8286-606616CD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3D96F-7002-415A-BD5A-32834771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11975-B616-49A5-82B6-812F5F08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773C8E-FE3C-467A-9F91-C04B4358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A3B-6CFD-4C5B-A501-9AEEC5D2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BF3721-47C1-4B45-851A-C782CD16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45BF88-3892-43F2-9071-567DF4D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ED6A5B-A83F-4C72-B7B6-7491582C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D83A1C-3CD4-46D6-BFF9-A0287A21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929A8B-1D4F-47AB-8637-8BD89AB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777BF5-1A37-4ECE-B5C0-4255815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6420B4-572A-4353-9E06-12B5011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FEA0A0-4F9C-4DE1-B3E5-24D4E3B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15E3E9-2548-456B-8031-588833D5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7ED5D0-A76E-4414-B68C-19952217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BA2-4086-43B0-AF7B-FD92ACEB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6E6626-9F09-42C8-84DD-EEE28096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C6B1D-7661-4785-BBAB-CEB5D5FC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2D60B-903F-4732-BD16-4FDBE1B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91B77-E22C-4BA4-881D-A9736DE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60B8C-F817-4C60-AA5B-58B9E82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A78C9-EE3E-4918-8A56-90B5A75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5623B-CE57-45AC-8B7F-4CBEFC2D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5962F-63BC-4D10-815D-78124EF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BDC29-1C3C-4A7F-939A-D06E0AFD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B2C7D-9317-407A-977C-8B8A079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F03-CEF9-4885-878D-8C9949A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4005B5-5F16-4FD1-BFD4-213D8D3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D0DE1-29EE-4949-B071-30523646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8E53A-7774-4086-8483-E6C2342F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71DAE8-DD68-4DB6-9221-716740E3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DA6124-7D26-4F0B-8077-44CC9E8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3B787D-F480-48C6-8372-BCA1CE64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2AAFEE-174E-4474-B4ED-80744EB3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6494AD-C7D1-43EA-BB1A-595A356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F3F71F-DA46-4CF1-B172-C53AB78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DB8066-280A-4954-B3C7-D3A8D2B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EFA8-FBC8-4019-831E-BF78C38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374-4817-4838-8D38-6AD59E9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C49258-97F9-47FC-816D-E237A0A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884587-13F9-48D5-A3D8-75B7AE9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6A6DFB-4516-48AB-AB6B-5C27FED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FB5578-8FD3-4FB9-8F03-F238B888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F4367A-2087-45CB-B0D8-1DFE5102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0AAD5-A016-4327-B343-48A2E41C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D1520-1B74-4F28-9FE0-E836430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161A7-443D-484D-98A4-59C77D01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A3F7D-6C79-49F9-8727-E9DC1C23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3AD27-857D-426E-B7B9-86B533D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DAD-3353-40C6-B4A1-44085323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5E879-9131-4F74-A694-B349F75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629B2-1ECF-40E7-B7A9-ACA56364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E9DC5-EC97-4646-BE83-FC873E0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BC328-C4F1-436B-B1D7-08AF780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53BD3C-7781-4EAF-847B-824D48D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FCA1A-F3E9-4A74-AA5B-5C0CAE20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4114A-70DB-46AB-9263-C636D0B0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298A2-A078-4FDF-B42E-2486A3F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5B285-AFC5-4423-B33C-1483C0A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6E301-E363-4323-8F44-2EF199C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5AB-2BDC-426E-8D08-9B698FB8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5FDDEE-AA3E-4E7A-B10C-7477F3E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7E3CC-4C7E-47F0-8950-5D73230E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91274-DFEB-4E85-BE35-EE13DD3A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4EF58-FB52-44FB-871D-40A83A5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62FA4-DAED-437C-851A-502088C5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A96FA4-B671-4FEE-B3BD-2E7B459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5FC60-4727-44DB-AF7E-777F4E0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AA522-F803-4989-A1A1-8624292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EE302-5982-4812-BDF8-8FAFA288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72B4C-E3B5-4D2E-B6C8-0B6FB543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EC20-7EA9-48F7-A528-093207C6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63743D-B556-4498-831A-39D0550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19352-3552-4BE4-8FF1-BF9A6857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F1CFC2-3BF9-41A7-BE7C-3BBDC27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5C88B-DD8F-4996-A0EE-79C506C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8AB0F-88EA-4765-9F78-B5AF6CC3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891771-FD6F-47E3-AF1A-7FF6269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FD71E-D9F7-4AA2-8C94-DEF996E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ED079-3CF3-411F-9D56-10F09F5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D6A32-9F2F-4D01-B5E9-D69B7C7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90C14-C4EC-4CD0-9A96-5665CC1C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034A-FEE1-4C13-A90B-9E490A64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19143-863E-41F9-B602-EC40D1C5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5CED-FBEB-44D5-A7DD-3ADBEB3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703F-C1D2-4ECC-87A3-592D72F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D982-7973-4AA9-A5DB-9E77B544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F7B4-BD0B-47E6-A68B-DFC9C93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9850-177B-4FCF-8407-884CD035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4567-F765-4973-9953-875BF21B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E274A-9380-4592-9AD6-33FFF46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7055-D9AF-40DC-8FEE-B0001375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8632-48E5-4660-8105-72CCB4A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61D2-6E58-4A1A-9B58-515159D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125C-3EF4-44F4-BE15-4F02688A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1AB1-63FD-407F-83AB-16ECBA60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119A-8CE3-4519-8D90-CC30CC66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F3467-6B39-46E2-8479-1F831463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746BE-0373-4916-BB43-87A52689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A8B6D-B025-412D-A5F3-5D3ABC76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E129-1DCA-440A-BFB9-C4A77A8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7311D-F226-442F-A354-DDFBD54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167DA-CB0E-4764-B3F1-26E6485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FB268-5D02-4106-858D-DF89123C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5279F-53C1-462E-ADF8-56D28BDC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45DEF-038A-4CA9-B616-B2E5E48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B4027-6C48-4922-8B3E-EF4C179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A3974-67A5-4126-A3A2-76EA07A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A34AB-672C-4073-A2B3-9FEB5042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112BC-E3D6-4C65-8FCC-376E9853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659D6-0E44-483F-A7DE-BF1341B9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0297-1AB3-445A-A89E-4A92E60B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EE97-9A6F-4E51-B5E3-1B8D876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8F8D3-B79A-46D1-BD02-5CE9E46B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1CEF-F567-4BEA-99F0-01E61EAB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DC80-FF1A-4D0C-8C4B-06685B6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1CD0-554C-436F-93F3-CBCE9A5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970B-A1D6-4C0F-B82E-CEE3984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ED29-9D30-4901-B246-89A1728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7385-BE55-4CE7-9EC7-BB998269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04EA-2365-4C01-97F2-3A9A420C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84DC-979E-4482-B322-B6A80FCF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3EE5-AE07-438A-9949-0B64760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3EBF-923F-4A9D-B198-1C920BB8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53A3A-ED77-46B4-8C55-FE640DA2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8434D-1B55-4764-8023-29E70302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5E2B-BDE6-4524-B5D3-ABDDF47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4AD3E-D61A-47EC-B203-B1E4C25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57DB-2145-4558-8355-5B56B0F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DF7B9-9CDA-4737-868F-0B72C1D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A842B-170B-4E7A-ADD6-ADCF3C6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44901-6CF4-4AF6-AEC2-DB92129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28B1-FB25-40EE-AB4B-6F229C4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6219-B69A-44B2-960E-DC4263C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62E57-EFED-4570-8A46-ABB15C7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80A3-0451-46A9-ABB5-8D36F724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F9A3F-9EC4-4166-9E10-C172A646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20CC4-FACE-4338-832F-8AB0E3DA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287B3-4E65-45F9-9774-719EB53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B0EE-721C-4A0D-966A-07C65F0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086B-3CA5-430B-85CE-2385EE47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6529-FD4B-4A8F-BF39-B936D423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A1EBF-35A4-489C-A385-BBBE536D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40603-08B7-4A2A-AF48-DC0F9368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4555-831B-4692-B91D-937ABC0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ACFB-8751-4B8E-800F-366A6BB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E6A3-9B60-4C26-9B54-9DEB5A3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D0B8-8B2F-43B7-9437-C8FC108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1430B-62A6-4CF0-B8BC-ACBA331E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B7F3-B823-40BC-ACDF-B6095C25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5060-581A-4E43-ADF7-71049C12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6A12A-CD21-4896-8FC1-D0842F8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A4DC2-F2D3-48E9-A3D8-376002A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75DB-D16B-4ABD-93CF-3F922753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AFF6-5162-4D5C-86C8-F9AE790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DDF9-91F8-4B71-89AD-561EED7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F670-D770-434F-86FA-2DBD3F7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C320A-07CC-47D4-84DB-D1DBFBC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3EFCF-F6B7-445E-8D17-1135BD0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83B1-6FA5-4833-8725-D249EC2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266B-54CA-4E30-A29E-E16D59B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14E0-DB52-44BD-BF70-933B41B7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0EB9-6684-4646-B61D-9A89D1D5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81BCF-7F15-4760-B928-B4BC8188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F2599-13F6-4B9D-9A3E-7D0D2E85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5D926-FC57-48B2-9663-51024990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B3A-5FA2-46E7-B44E-C99ACF0B1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6B10-CE4B-419D-BC8B-720C60BDEE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1856-5A16-4B97-9A15-55943D67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D290-FB6B-4AA5-9E47-4B7AAD95F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90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3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3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084-303C-4854-830A-0B77F5C06B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dt" idx="4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FF5-8B43-4D9E-B54A-ECE47DD46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E1FF-92AD-47F6-88D4-9462264990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05BB-62E0-49ED-901C-ACFF5B47D7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11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sldNum" idx="4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533-655D-4BF3-91BD-CA6850FB5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dt" idx="5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ftr" idx="5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7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19F-0D40-4206-BB76-42B2DD88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3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3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4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7D1-C810-4FD1-A06F-6415A1D79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9CD-41EB-4DCD-8DC5-4E34014224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82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82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83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8361-FE9F-47FD-A1BA-756AC9E16D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2158-D0CC-465F-B00A-D158DE07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80A7-2BBA-4659-A38E-CE965100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8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8B1-6EF7-4FC0-B6F0-CFF44DAE36E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5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7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679D-46E3-43E2-8A3C-AD1E4578923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3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5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CA2-573C-41E8-B460-D2820F1D2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4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4EF5-96A8-460E-8AFF-E01004D154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758-C73B-477E-B778-265C05A3F8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 Black"/>
              </a:rPr>
              <a:t>La Casa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Natalie Feuerm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un grande y lujos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5181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as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asa. Es muy gran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480060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oci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a cocina. Es magnifico y grand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3962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omedor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omedor. Es bello y lujos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2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2951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una moderna y nuve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Baño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 Es un grande y moder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8" name="" descr=""/>
          <p:cNvPicPr/>
          <p:nvPr/>
        </p:nvPicPr>
        <p:blipFill>
          <a:blip r:embed="rId1"/>
          <a:stretch/>
        </p:blipFill>
        <p:spPr>
          <a:xfrm>
            <a:off x="1066680" y="2489040"/>
            <a:ext cx="4419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uarto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un moderno y bon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411480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l Patio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un estupedo, nuevo y lujos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4" name="" descr=""/>
          <p:cNvPicPr/>
          <p:nvPr/>
        </p:nvPicPr>
        <p:blipFill>
          <a:blip r:embed="rId1"/>
          <a:stretch/>
        </p:blipFill>
        <p:spPr>
          <a:xfrm>
            <a:off x="2743200" y="2514600"/>
            <a:ext cx="41148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Jardi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in. Es un bonito, lujoso y inc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7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46Z</dcterms:created>
  <dc:creator>feuermannat</dc:creator>
  <dc:description/>
  <dc:language>en-US</dc:language>
  <cp:lastModifiedBy>feuermannat</cp:lastModifiedBy>
  <dcterms:modified xsi:type="dcterms:W3CDTF">2013-04-02T12:41:06Z</dcterms:modified>
  <cp:revision>6</cp:revision>
  <dc:subject/>
  <dc:title>La Casa  </dc:title>
</cp:coreProperties>
</file>